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270-9F69-43A8-B436-0ACDB4A4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A1BA-E942-4B15-8E1C-5E3B4C98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3911-242E-4AC2-9C6C-FFF481A76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17A7-02F2-480C-87BD-3F5ADB37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ACE83-2D44-4445-99C0-1D083E434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2BAB-BA09-47E0-92F3-9678EC48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9C1A-BC54-40CD-8B35-9339A897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06A5A-D119-4E91-9A8D-5ADC4922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013E-50C7-408F-A817-F9DEE93C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2D65-C97E-4B54-9C30-65014DCE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69FA-1A68-400F-80D0-B85EF996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863-C92C-4948-834D-46819D5C4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EB8C-4B6E-4ABD-87D6-CBE7469B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DC5A-EB60-46AE-AC28-8D665A47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6D952-AE50-41BD-A069-EE27F266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0B83-B16F-4490-B134-4FD0E74C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68CD7-C6F1-4786-8616-55516C5F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4E277-7FE0-4C11-8537-B8AB659B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8C2D6-7BE8-42B2-806C-4A974C96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F9631-85D1-4694-93A7-4A9A3265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AF235-8275-47BC-A229-6319CBBF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58950-72D7-4825-8BA4-A189B007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A6A5-B5A2-4190-8A0E-53F5C975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E0180-F215-49ED-BD44-25EE7DB1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CF227-259E-43AE-8B9F-BE5BC757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555F7-F4F4-4FB9-B44C-543F354D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CF819-96A2-4DD9-915A-BCDA065C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0B616-F7FF-4DAA-A572-5E0269E4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C1E1A-DEB7-4451-A735-A8DDBDA9C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F0C90-0121-4AC8-A973-7D02A3075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52737-36A4-4F10-9532-7B7FD3D5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F58C7-0127-442C-97E5-A1B5F363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24CF4-9309-436A-B809-F4C35550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C414-8956-4DF7-AAD7-2A6EA302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95A55-855F-4C15-A4AD-56D77EC1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8AC75-3F3A-4F15-92EB-601580B3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60F27-44A4-4CB6-BB6C-2ECF11AA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DCFB2-099C-4C6F-8051-F3460E0B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E43A1-FB22-4CEF-BD22-0154222B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49E6E-170B-445E-8F91-2B42A37C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702ED-BE73-485E-9D15-454C85DB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E479F-0ADA-4D88-8973-C66DF645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D7897-4437-4B52-B655-4D586328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FD39E-A782-426E-AED6-8197557D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D819-213A-4354-B9CE-CEB2C595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1E5E7-CB84-4066-A17A-CFC56957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83CDA-9BAB-4109-96D7-4BA8894A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19778-3460-4744-A3B5-A97F839C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AF127-CF49-425F-822E-A09340795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19208-3007-4B1B-8D09-C462CCD4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C3D84-72E5-460C-B08B-F4B301E1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BA20C-8203-489A-AC9F-81509C84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4EBD4-B5A0-4F6D-8123-873018B4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3B9D3-F94F-43F8-8E3D-A4A3D74E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39022-CE2C-445E-94EF-56C3539F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E0B1-70A9-4473-A5FC-761A08BE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08911-7FFE-4176-BC2A-6BE2D1D4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7A934-99FD-4FB7-96DE-CF21219F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510D4-9F61-4FEE-ADBC-C6A6C3CA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1D2DF-FE37-45B8-BA35-0190A126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95911-DC87-4A87-B791-CB7298E5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25118-B7CA-4C6A-A373-0D5A8938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4DCDC-E4EA-4E06-BF08-E0AAEEB5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4A3DD-4A5D-4431-BE54-22E02203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A5DD3-F11E-400C-A951-6F5FCB4B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5B8AC-A4D1-4606-84FA-6738CED7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F969-49C1-4E51-A4C0-12625F6D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5F14F-60E2-47F6-A2E1-BD83AAB0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758D0-74F2-496A-9A00-FAAA7D94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11EF5-B231-4C63-88F4-A6B055330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7C0E2-0336-4E53-BEEA-A87AE0499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3A34D-6200-43A3-9CBA-B884B10D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E2404-ADA7-4C6C-B395-EC2682E5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2580F-AF74-4433-B149-41EFB181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3C16F-C1BA-42DE-A790-84CD5C6C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BCADC-608E-4617-B7D1-A4F0C2D7B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7E2A9-6FCE-4629-9B62-82D0C679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8410-3A8E-4C42-A12F-04929A5D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C8ADE-8871-4AFC-AAA2-E78E4088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B77FA-DBC8-4133-A5AD-2C4CB7EB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1B2F9-A4ED-4C3C-8CF6-DEC2749D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85360-FE04-4B76-8425-3594CEC4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4270EB-E206-4B70-94B2-698D3AB0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951F-CEC6-4B9B-956C-4FC77B0A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60C0-54A6-4474-BCA4-27D48F6D4C1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D842B-212E-4F6C-97E0-0ECE0671DCD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5111-BDED-445D-95AA-0B491885B43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AD3D-EAA2-427A-B0F8-ED4A795A5BA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AC18-6E22-4830-A5D5-B04A2512038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3FA7-9DE6-4396-8ED7-370351C39DE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9FC2-C211-4213-B04E-7BFBC8256C5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57736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b0f0"/>
                </a:solidFill>
                <a:latin typeface="Monotype Corsiva"/>
                <a:ea typeface="Times New Roman"/>
              </a:rPr>
              <a:t>Рада видеть вас, друзья!</a:t>
            </a:r>
            <a:endParaRPr b="0" lang="en-US" sz="13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285840" y="642960"/>
          <a:ext cx="8643960" cy="5857920"/>
        </p:xfrm>
        <a:graphic>
          <a:graphicData uri="http://schemas.openxmlformats.org/drawingml/2006/table">
            <a:tbl>
              <a:tblPr/>
              <a:tblGrid>
                <a:gridCol w="4357440"/>
                <a:gridCol w="4286520"/>
              </a:tblGrid>
              <a:tr h="46044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ИН-             журавлИ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Н-             кожА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ЯН-             землЯН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помни!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оловЯ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клЯ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евЯ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ЕНН-            обед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НН-            авиа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помни!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ветрЕ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помни!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 входит в кор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иНий, зелёНый, сиНий,     свиНой, багряНый, юНый, румяНый, фазаНий, тюлеНий, бара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существитель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основой на Н+ -Н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аб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 gridSpan="2"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56800" y="274320"/>
            <a:ext cx="80773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а-исключен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071360" y="1643040"/>
            <a:ext cx="74293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Я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Н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КЛЯ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Н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Н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РЕ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ПОМНИ!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"/>
          <p:cNvSpPr/>
          <p:nvPr/>
        </p:nvSpPr>
        <p:spPr>
          <a:xfrm>
            <a:off x="971640" y="250200"/>
            <a:ext cx="792144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1)Однажды я гулял по песчаному берегу моря. 2)Пустынная местность казалась спокойной. 3)Был жаркий, но ветреный день. 4)Припекало солнце, и поверхность моря сверкала серебряными искрами. 5)Неширокая дорожка пролегала среди кустов с неяркими оранжевыми цветами. 6)У меня под ногами скрипели песчинки. 7)Иногда ветер приносил с моря мелкие водяные брызги. 8)Торжественную тишину нарушало только пение маленьких птичек да пчелиный г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Определите основную мысль текста. О чем он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- Определите стиль этого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- Какие элементы художественного стиля вы можете указать в этом текс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-  Найдите в тексте прилагательные, объясните правописание  Н и НН в суффикс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533600" y="620640"/>
          <a:ext cx="7359480" cy="3605400"/>
        </p:xfrm>
        <a:graphic>
          <a:graphicData uri="http://schemas.openxmlformats.org/drawingml/2006/table">
            <a:tbl>
              <a:tblPr/>
              <a:tblGrid>
                <a:gridCol w="1838160"/>
                <a:gridCol w="1839960"/>
                <a:gridCol w="1841400"/>
                <a:gridCol w="1839960"/>
              </a:tblGrid>
              <a:tr h="5749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i="1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-Н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Прямоугольник 2"/>
          <p:cNvSpPr/>
          <p:nvPr/>
        </p:nvSpPr>
        <p:spPr>
          <a:xfrm>
            <a:off x="2286000" y="43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3e21"/>
                </a:solidFill>
                <a:latin typeface="Times New Roman"/>
                <a:ea typeface="Times New Roman"/>
              </a:rPr>
              <a:t>Систематизируйте свои выводы в таблиц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042920" y="2060640"/>
          <a:ext cx="7885080" cy="4454640"/>
        </p:xfrm>
        <a:graphic>
          <a:graphicData uri="http://schemas.openxmlformats.org/drawingml/2006/table">
            <a:tbl>
              <a:tblPr/>
              <a:tblGrid>
                <a:gridCol w="1860480"/>
                <a:gridCol w="1927440"/>
                <a:gridCol w="1790640"/>
                <a:gridCol w="2306520"/>
              </a:tblGrid>
              <a:tr h="5648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-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-Н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песчано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а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пусты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сущ.-Н+-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ветре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склю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торжественну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-ен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серебряны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я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водя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я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пчели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и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верьте результа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я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азового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уровня</a:t>
            </a:r>
            <a:br>
              <a:rPr sz="32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Rectangle 1"/>
          <p:cNvSpPr/>
          <p:nvPr/>
        </p:nvSpPr>
        <p:spPr>
          <a:xfrm>
            <a:off x="1042920" y="745920"/>
            <a:ext cx="7850160" cy="49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пропущенные буквы, выделите суффик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. утренний, мышиный, куриный,   бесчувств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. кожаный, оловянный, кам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. жестяной, ценный, длинн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я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овышенного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уровня</a:t>
            </a:r>
            <a:br>
              <a:rPr sz="32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116000" y="1089000"/>
            <a:ext cx="78487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пропущенные буквы, распределите слова на два столбика: 1) – нн- ; 2)  – н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олюционный, восторженный, обеденный, оловянный, деревянный, экскурсионный, письменный, стеклянный, авиационный, обыкновен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чаный, костяной, орлиный, овсяный, шерстяной, кожаный, звериный, торфя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я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ысокого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уровня</a:t>
            </a:r>
            <a:br>
              <a:rPr sz="32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042920" y="750960"/>
            <a:ext cx="79218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йте прилагательные от существительных, объясните графически выбор –Н- и –Н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.берестяной, чугунный, глиняный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.былинный, костяной, кухонный, телефонный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.журавлиный, петушиный, деревянный, серебряны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ефлекс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Rectangle 1"/>
          <p:cNvSpPr/>
          <p:nvPr/>
        </p:nvSpPr>
        <p:spPr>
          <a:xfrm>
            <a:off x="1042920" y="1058760"/>
            <a:ext cx="76327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Как бы вы оценили результаты своей работы на уро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я всё понял, могу этот материал объяснить другом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я сам всё понял, но объяснить другому не возьмус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ля полного понимания мне нужно еще все повтори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я ничего не поня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Домашнее зада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br>
              <a:rPr sz="3600"/>
            </a:br>
            <a:br>
              <a:rPr sz="4000"/>
            </a:br>
            <a:br>
              <a:rPr sz="22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Rectangle 1"/>
          <p:cNvSpPr/>
          <p:nvPr/>
        </p:nvSpPr>
        <p:spPr>
          <a:xfrm>
            <a:off x="1042920" y="492840"/>
            <a:ext cx="785016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рованно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й уровен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выучить правило п.64, упр.3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ный уровень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.64, упр.373-работа с тек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окий уровен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еское зад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уж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оставить словосочетания, предложения или небольшой текс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свободную тему с использованием прилагательных с одной и двумя н в суффик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"/>
          <p:cNvSpPr/>
          <p:nvPr/>
        </p:nvSpPr>
        <p:spPr>
          <a:xfrm>
            <a:off x="1258920" y="473760"/>
            <a:ext cx="770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рим домашнее зад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енный 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тцевый, рубашонка, ежовый, речонка, плюшевый, камышовый, пирожок, овражек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ей, пейзажем ,шалашом, плющом, чащей, стражей, ландышем, грачом, в свежем, тучей, чертежом, улицей, ключ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9720" y="274320"/>
            <a:ext cx="75726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b0f0"/>
                </a:solidFill>
                <a:latin typeface="Monotype Corsiva"/>
              </a:rPr>
              <a:t>До новых встреч…</a:t>
            </a:r>
            <a:endParaRPr b="0" lang="en-US" sz="13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уквенный диктант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Rectangle 1"/>
          <p:cNvSpPr/>
          <p:nvPr/>
        </p:nvSpPr>
        <p:spPr>
          <a:xfrm>
            <a:off x="1116000" y="1160280"/>
            <a:ext cx="7632720" cy="527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янный, дровяной, муравьиный, торжественный, даль туманна, юный, ветреный, старинный, песчаный, дивизионны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себя. 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  2  3 4   5   6 7  8   9 10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н н н нн нн н н нн н н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вь себе оценку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5" - нет ошибок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4" - 1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3" - 2, 3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е - "2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Письмо по памя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Прямоугольник 2"/>
          <p:cNvSpPr/>
          <p:nvPr/>
        </p:nvSpPr>
        <p:spPr>
          <a:xfrm>
            <a:off x="971640" y="1773360"/>
            <a:ext cx="79930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Свет луны серебряный и длинный, </a:t>
            </a:r>
            <a:br>
              <a:rPr sz="3200"/>
            </a:br>
            <a:r>
              <a:rPr b="0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Плачут вербы, шепчут тополя, </a:t>
            </a:r>
            <a:br>
              <a:rPr sz="3200"/>
            </a:br>
            <a:r>
              <a:rPr b="0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Но никто под окрик журавлиный</a:t>
            </a:r>
            <a:br>
              <a:rPr sz="3200"/>
            </a:br>
            <a:r>
              <a:rPr b="0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Не разлюбит отчие поля. </a:t>
            </a:r>
            <a:br>
              <a:rPr sz="3200"/>
            </a:br>
            <a:r>
              <a:rPr b="0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                                      (С. Есен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Составьте предложения, используя словосочетания: 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Прямоугольник 2"/>
          <p:cNvSpPr/>
          <p:nvPr/>
        </p:nvSpPr>
        <p:spPr>
          <a:xfrm>
            <a:off x="1258920" y="1700280"/>
            <a:ext cx="75610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сонный лес, серебряный иней, торжественная тишина, звериные тропы, причудливые искусственные кружева, багряное солнце,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"/>
          <p:cNvSpPr/>
          <p:nvPr/>
        </p:nvSpPr>
        <p:spPr>
          <a:xfrm>
            <a:off x="1116000" y="1116000"/>
            <a:ext cx="77040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3b1d15"/>
                </a:solidFill>
                <a:uFillTx/>
                <a:latin typeface="Times New Roman"/>
                <a:ea typeface="Times New Roman"/>
              </a:rPr>
              <a:t>Сегодня на уроке я:</a:t>
            </a:r>
            <a:br>
              <a:rPr sz="4000"/>
            </a:br>
            <a:r>
              <a:rPr b="0" lang="ru-RU" sz="40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1) узнал, открыл для себя… </a:t>
            </a:r>
            <a:br>
              <a:rPr sz="4000"/>
            </a:br>
            <a:r>
              <a:rPr b="0" lang="ru-RU" sz="40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2) научился, смог… </a:t>
            </a:r>
            <a:br>
              <a:rPr sz="4000"/>
            </a:br>
            <a:r>
              <a:rPr b="0" lang="ru-RU" sz="40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3) могу похвалить себя и своих одноклассников за …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14200"/>
            <a:ext cx="749952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ь внимателен: каждый шаг может привести            тебя к открытию.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Кумор Лешек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роблемная ситуац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Прямоугольник 2"/>
          <p:cNvSpPr/>
          <p:nvPr/>
        </p:nvSpPr>
        <p:spPr>
          <a:xfrm>
            <a:off x="1116000" y="134136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 (Не) веселый, осе.. 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не) разговорчивый 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) лиц… вой, серебр.. ный, еж..вый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) (Не) правдив, а лжив; нисколько (не) интересная книга; утре..ий;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) … …. … 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14240" y="260280"/>
            <a:ext cx="8220240" cy="60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b3e21"/>
                </a:solidFill>
                <a:latin typeface="Times New Roman"/>
                <a:ea typeface="Times New Roman"/>
              </a:rPr>
              <a:t>Тема урока:</a:t>
            </a:r>
            <a:br>
              <a:rPr sz="4800"/>
            </a:br>
            <a:r>
              <a:rPr b="1" lang="ru-RU" sz="4800" spc="-1" strike="noStrike">
                <a:solidFill>
                  <a:srgbClr val="4b3e21"/>
                </a:solidFill>
                <a:latin typeface="Times New Roman"/>
                <a:ea typeface="Times New Roman"/>
              </a:rPr>
              <a:t>Н-НН</a:t>
            </a:r>
            <a:br>
              <a:rPr sz="4800"/>
            </a:br>
            <a:r>
              <a:rPr b="1" lang="ru-RU" sz="4800" spc="-1" strike="noStrike">
                <a:solidFill>
                  <a:srgbClr val="4b3e21"/>
                </a:solidFill>
                <a:latin typeface="Times New Roman"/>
                <a:ea typeface="Times New Roman"/>
              </a:rPr>
              <a:t>в суффиксах прилагательных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57736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b3e21"/>
                </a:solidFill>
                <a:latin typeface="Times New Roman"/>
                <a:ea typeface="Times New Roman"/>
              </a:rPr>
              <a:t>Цель урока:</a:t>
            </a:r>
            <a:br>
              <a:rPr sz="4800"/>
            </a:br>
            <a:r>
              <a:rPr b="1" lang="ru-RU" sz="4800" spc="-1" strike="noStrike">
                <a:solidFill>
                  <a:srgbClr val="4b3e21"/>
                </a:solidFill>
                <a:latin typeface="Times New Roman"/>
                <a:ea typeface="Times New Roman"/>
              </a:rPr>
              <a:t>Выяснить правила написания Н-НН в суффиксах прилагательных, образованных от имён существительных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3"/>
          <p:cNvSpPr/>
          <p:nvPr/>
        </p:nvSpPr>
        <p:spPr>
          <a:xfrm>
            <a:off x="1403280" y="692280"/>
            <a:ext cx="7169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826920" y="707040"/>
            <a:ext cx="7993080" cy="48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90d"/>
                </a:solidFill>
                <a:latin typeface="Arial"/>
                <a:ea typeface="Times New Roman"/>
              </a:rPr>
              <a:t>Как образовались слова</a:t>
            </a: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Серебро – серебр – </a:t>
            </a:r>
            <a:r>
              <a:rPr b="1" i="1" lang="ru-RU" sz="2400" spc="-1" strike="noStrike" u="sng">
                <a:solidFill>
                  <a:srgbClr val="c32d2e"/>
                </a:solidFill>
                <a:uFillTx/>
                <a:latin typeface="Arial"/>
                <a:ea typeface="Times New Roman"/>
              </a:rPr>
              <a:t>ян</a:t>
            </a:r>
            <a:r>
              <a:rPr b="1" i="1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–ый_(суффиксальный спосо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Утро – утр –</a:t>
            </a:r>
            <a:r>
              <a:rPr b="1" i="1" lang="ru-RU" sz="2400" spc="-1" strike="noStrike" u="sng">
                <a:solidFill>
                  <a:srgbClr val="c32d2e"/>
                </a:solidFill>
                <a:uFillTx/>
                <a:latin typeface="Arial"/>
                <a:ea typeface="Times New Roman"/>
              </a:rPr>
              <a:t>енн </a:t>
            </a: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– ий_(суффиксальный спосо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Осень – осен –</a:t>
            </a:r>
            <a:r>
              <a:rPr b="1" i="1" lang="ru-RU" sz="2400" spc="-1" strike="noStrike" u="sng">
                <a:solidFill>
                  <a:srgbClr val="c32d2e"/>
                </a:solidFill>
                <a:uFillTx/>
                <a:latin typeface="Arial"/>
                <a:ea typeface="Times New Roman"/>
              </a:rPr>
              <a:t>н</a:t>
            </a:r>
            <a:r>
              <a:rPr b="1" i="1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–ий__(суффиксальный спосо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соловей – соловь- </a:t>
            </a:r>
            <a:r>
              <a:rPr b="1" i="1" lang="ru-RU" sz="2400" spc="-1" strike="noStrike" u="sng">
                <a:solidFill>
                  <a:srgbClr val="c32d2e"/>
                </a:solidFill>
                <a:uFillTx/>
                <a:latin typeface="Arial"/>
                <a:ea typeface="Times New Roman"/>
              </a:rPr>
              <a:t>и</a:t>
            </a:r>
            <a:r>
              <a:rPr b="1" lang="ru-RU" sz="2400" spc="-1" strike="noStrike" u="sng">
                <a:solidFill>
                  <a:srgbClr val="c32d2e"/>
                </a:solidFill>
                <a:uFillTx/>
                <a:latin typeface="Arial"/>
                <a:ea typeface="Times New Roman"/>
              </a:rPr>
              <a:t>н</a:t>
            </a: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 –ый (суффиксальный спосо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  </a:t>
            </a: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песок - песч-</a:t>
            </a:r>
            <a:r>
              <a:rPr b="1" i="1" lang="ru-RU" sz="2400" spc="-1" strike="noStrike" u="sng">
                <a:solidFill>
                  <a:srgbClr val="c32d2e"/>
                </a:solidFill>
                <a:uFillTx/>
                <a:latin typeface="Arial"/>
                <a:ea typeface="Times New Roman"/>
              </a:rPr>
              <a:t>ан</a:t>
            </a: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-ый     (суффиксальный спосо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авиация - авиаци-</a:t>
            </a:r>
            <a:r>
              <a:rPr b="1" i="1" lang="ru-RU" sz="2400" spc="-1" strike="noStrike" u="sng">
                <a:solidFill>
                  <a:srgbClr val="c32d2e"/>
                </a:solidFill>
                <a:uFillTx/>
                <a:latin typeface="Arial"/>
                <a:ea typeface="Times New Roman"/>
              </a:rPr>
              <a:t>онн</a:t>
            </a: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-ый (суффиксальный спосо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1258920" y="754200"/>
            <a:ext cx="7416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e190d"/>
                </a:solidFill>
                <a:uFillTx/>
                <a:latin typeface="Times New Roman"/>
                <a:ea typeface="Times New Roman"/>
              </a:rPr>
              <a:t>1 вариант</a:t>
            </a:r>
            <a:r>
              <a:rPr b="0" lang="ru-RU" sz="3200" spc="-1" strike="noStrike">
                <a:solidFill>
                  <a:srgbClr val="1e190d"/>
                </a:solidFill>
                <a:latin typeface="Times New Roman"/>
                <a:ea typeface="Times New Roman"/>
              </a:rPr>
              <a:t>   Мужественный, соломенный, станционный, чувственный, тыквенный, клюк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e190d"/>
                </a:solidFill>
                <a:uFillTx/>
                <a:latin typeface="Times New Roman"/>
                <a:ea typeface="Times New Roman"/>
              </a:rPr>
              <a:t>2 вариант </a:t>
            </a:r>
            <a:r>
              <a:rPr b="0" lang="ru-RU" sz="3200" spc="-1" strike="noStrike">
                <a:solidFill>
                  <a:srgbClr val="1e190d"/>
                </a:solidFill>
                <a:latin typeface="Times New Roman"/>
                <a:ea typeface="Times New Roman"/>
              </a:rPr>
              <a:t>Осенний, туманный, карманный, лимонный, стари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90d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1e190d"/>
                </a:solidFill>
                <a:uFillTx/>
                <a:latin typeface="Times New Roman"/>
                <a:ea typeface="Times New Roman"/>
              </a:rPr>
              <a:t>3 вариан</a:t>
            </a:r>
            <a:r>
              <a:rPr b="0" lang="ru-RU" sz="3200" spc="-1" strike="noStrike">
                <a:solidFill>
                  <a:srgbClr val="1e190d"/>
                </a:solidFill>
                <a:latin typeface="Times New Roman"/>
                <a:ea typeface="Times New Roman"/>
              </a:rPr>
              <a:t>   Кожаный, песчаный, серебряный, земляной ,звериный,  лебеди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2268360" y="1260000"/>
            <a:ext cx="5616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SchoolBookC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9-01-22T22:03:07Z</dcterms:modified>
  <cp:revision>110</cp:revision>
  <dc:subject/>
  <dc:title>Будь внимателен: каждый шаг может привести            тебя к открытию.                   Кумор Лешек</dc:title>
</cp:coreProperties>
</file>